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EA3-7462-49AB-814A-A7E8A02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C29-58DA-49BF-A1C4-31E06625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817-1DAB-49C9-83E8-420A2D48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397-90DC-414D-9EE3-2C0A6465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3CD-FC41-4DE2-BA53-E8DD5265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825-7A4A-4488-BED7-148CA54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5B3D-0960-463E-967F-12D0A22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EC3-489B-4BD9-AF22-900DB94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2DE5-EAB9-4772-8A22-6F3B295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0EC6-7E04-4E50-8F7D-F0CAA91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F7E3-B568-4BD5-AED9-E60FF68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B28-81B1-453E-A7AF-08BA6513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AEED-08B8-4B98-917D-4C0CDBC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EDAD-001E-416F-BD9A-C01D766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364D-1F40-4F9E-9659-3AAAE6F8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8EE8-9EEB-4585-93D5-ED87C282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1E1-30CE-45C7-966A-6527FC4C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305-8993-4E53-92D6-5030A669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CB2-A07E-4A34-95F0-F240B2A2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8AA-DDC6-46D6-8485-A01C1EC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1C6-0714-44D3-982F-1F36785A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B3A-665F-4CFF-B099-4F77F59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4DF-4FBA-4577-8568-22D7926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D8A-4FF7-47A0-9328-22130BDF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3490-7547-4554-BD95-9619DD559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7507-C8A4-40E7-8CBC-DD00EACE4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hyperlink" Target="http://www.indezine.com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31840" y="906480"/>
            <a:ext cx="6856560" cy="5027760"/>
          </a:xfrm>
          <a:prstGeom prst="rect">
            <a:avLst/>
          </a:prstGeom>
          <a:gradFill rotWithShape="0">
            <a:gsLst>
              <a:gs pos="0">
                <a:srgbClr val="3333cc">
                  <a:alpha val="4000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371600" y="1142640"/>
            <a:ext cx="6399360" cy="457056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2693880"/>
            <a:ext cx="5473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ourth of Ju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10800000">
            <a:off x="2568240" y="1831320"/>
            <a:ext cx="6118200" cy="457524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19440" y="2001960"/>
            <a:ext cx="2889360" cy="2062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Families often celebrate with relatives,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59280" y="2004840"/>
            <a:ext cx="2794320" cy="425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719440" y="4189320"/>
            <a:ext cx="2884320" cy="207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s are decorated with streamers an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301840" y="1975680"/>
            <a:ext cx="6400800" cy="44578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19200" y="2101680"/>
            <a:ext cx="3022920" cy="2000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580000" y="2101680"/>
            <a:ext cx="2989440" cy="419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419200" y="4273560"/>
            <a:ext cx="3022920" cy="200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alloons generally colored in red, white, and blue – the colors of the American Flag,…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3336480" y="1986840"/>
            <a:ext cx="534996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88200" y="2128680"/>
            <a:ext cx="2136600" cy="410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94160" y="212724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some people get dressed up for the parad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79760" y="2255400"/>
            <a:ext cx="6107040" cy="41515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38520" y="2409840"/>
            <a:ext cx="5815080" cy="38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dusk and at night, fireworks color the ski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5032080" y="1987200"/>
            <a:ext cx="365436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4040" y="2124000"/>
            <a:ext cx="3319560" cy="404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31840" y="906480"/>
            <a:ext cx="6856560" cy="5027760"/>
          </a:xfrm>
          <a:prstGeom prst="rect">
            <a:avLst/>
          </a:prstGeom>
          <a:gradFill rotWithShape="0">
            <a:gsLst>
              <a:gs pos="0">
                <a:srgbClr val="3333cc">
                  <a:alpha val="40000"/>
                </a:srgbClr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1371600" y="1142640"/>
            <a:ext cx="6399360" cy="457056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5280" y="1790640"/>
            <a:ext cx="5473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 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bfdd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3200" spc="-1" strike="noStrike" u="sng">
                <a:solidFill>
                  <a:srgbClr val="9fbfdd"/>
                </a:solidFill>
                <a:uFillTx/>
                <a:latin typeface="Arial"/>
                <a:hlinkClick r:id="rId3"/>
              </a:rPr>
              <a:t>://www.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10800000">
            <a:off x="2579760" y="1986840"/>
            <a:ext cx="610704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Fourth of July" or "July 4th" is Independence Day in the United St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97120" y="2108160"/>
            <a:ext cx="5859360" cy="41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ing the Declaration of Independence of America from Great Britain on July 4, 177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5089680" y="1987200"/>
            <a:ext cx="359712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34040" y="2124000"/>
            <a:ext cx="3319560" cy="414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s on July 4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2579760" y="1986840"/>
            <a:ext cx="610704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21200" y="2124000"/>
            <a:ext cx="2735280" cy="413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44640" y="2124000"/>
            <a:ext cx="2949840" cy="413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urth of July is associated with fireworks,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2188800" y="1986840"/>
            <a:ext cx="649764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87960" y="2120760"/>
            <a:ext cx="3365640" cy="413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308320" y="2120760"/>
            <a:ext cx="275904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des, barbecues, picnics,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2579760" y="1986840"/>
            <a:ext cx="610704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57600" y="2124000"/>
            <a:ext cx="2766960" cy="411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664240" y="2124000"/>
            <a:ext cx="2889360" cy="191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0" r="-70" b="0"/>
          <a:stretch/>
        </p:blipFill>
        <p:spPr>
          <a:xfrm>
            <a:off x="5675400" y="4165560"/>
            <a:ext cx="287820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aseball games,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717640" y="3371400"/>
            <a:ext cx="5964480" cy="30355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62360" y="3497400"/>
            <a:ext cx="2778120" cy="277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75480" y="3500280"/>
            <a:ext cx="2774880" cy="2775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public and private ev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430880" y="1536480"/>
            <a:ext cx="4255920" cy="49258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0" r="0" b="17"/>
          <a:stretch/>
        </p:blipFill>
        <p:spPr>
          <a:xfrm>
            <a:off x="4572000" y="1643040"/>
            <a:ext cx="3957480" cy="1984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72000" y="3773520"/>
            <a:ext cx="3956040" cy="256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20852400">
            <a:off x="2039400" y="2219400"/>
            <a:ext cx="3613320" cy="2419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160" y="274320"/>
            <a:ext cx="88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And typically, malls have sales, and everyone has a holiday!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076720" y="1987200"/>
            <a:ext cx="3610080" cy="4419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34040" y="2124000"/>
            <a:ext cx="3319560" cy="414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5:49:09Z</dcterms:created>
  <dc:creator>Geetesh Bajaj</dc:creator>
  <dc:description/>
  <dc:language>en-US</dc:language>
  <cp:lastModifiedBy>Geetesh Bajaj</cp:lastModifiedBy>
  <dcterms:modified xsi:type="dcterms:W3CDTF">2007-06-27T10:10:41Z</dcterms:modified>
  <cp:revision>58</cp:revision>
  <dc:subject/>
  <dc:title>What is Fourth of July?</dc:title>
</cp:coreProperties>
</file>